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D96-D208-4AFA-A325-DF608F1F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C71D-F5DE-44AA-93C2-5D8FEDF80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120E-FC45-4A35-97F9-F6FCBCDB4A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79E4-F298-413A-A719-BE17A39319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1B24-D192-4A4E-99AE-B2E7817FBE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1CFC-992E-42FE-B1BE-91BCDB006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8F57-3FCD-496B-A5B2-1FDF9F9B68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F87F-D45A-4E3B-BF53-244B3D3CCB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5E74-BB8A-4430-B4D8-6A70A336CE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A1E4-7208-4090-B422-F43FEF4DC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F70A-A024-42F2-928A-B2B44F9BCC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8893-CC67-411A-A1F6-5B3B80647D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4257-D396-4553-B80A-83043208DA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83BF-1F90-4230-8EC5-746E5A6FC9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D7D3-825E-4713-ADA9-1A434B0F29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5398-0ECC-4E86-B1F5-5FF9FBF64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7C69-17F8-4F3A-BD49-8647693DE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782E-B2C8-4EB9-95E4-10F4EC6E46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1F3C-DAD8-401E-9EE2-250940A63C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1728-2A71-48DF-8DC6-C5B1456A9B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2B86-2590-4E16-8051-9623314FAC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BB2A-D3FB-4B4B-BE57-2CB2546E7D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FCA-DCF9-4437-AD87-3C958149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28A-4208-4033-A912-E1AF5135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158-2DB0-4F7D-9BFA-45A7F6AC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D31-57D2-4C6A-A5A5-98AABF99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7C6A-E07E-4A67-987B-CE63F951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7C7E-50DE-46A0-B65C-C04BDF8E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33F0-2848-45FF-A5DF-3A5427D5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6261-F2D4-474D-84D4-AC702623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F2D7-547A-4AE1-914A-4B800A07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3B6D-E689-4E1F-9316-F9E806BC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70F7-50DB-4824-A3A4-6FE592B4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5BF-3056-4234-9590-EF30EB98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211A-C5FF-4760-ACE2-0A243A4C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D881-A74F-4364-B392-E2475E1F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DF40-34B9-4E02-BCCA-B072932C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8846-8EDA-42CC-B24E-26373D02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AD0B-8A3A-4CFC-9FF0-91E98BB6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B83A-CD08-48BB-9377-AC8BC842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6541-4CD3-4A27-8597-97C27C3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4DD7-7C8D-4D08-A995-4948093D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0537-8BB3-4018-A8A8-31C46E4D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3D09-69F9-4644-8631-4D9AAD10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260-EB62-4463-A90D-31A3AFF4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54CD-E45E-415D-B0C1-1AAF2284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6C8F-39B5-4776-BA24-0BFA81B3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41C6-6572-4307-927A-5E72298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2C02-235C-4DBB-AABD-DBE2E78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0A6F-58BC-4C29-9AAC-0B2EA1CF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81E05-6485-4FBE-999A-709F1ED8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BAA6-40F0-45A1-9585-113AF97F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6E94A-96CC-4127-A0E1-4F584489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D74E-28EA-4712-AF33-A94DC309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2017-BBA7-4A48-8439-F6AC84F4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5C3-7F8E-48A1-B752-E2CE9119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5711E-9320-4144-8BEA-360B3FE4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7CE9-6A66-4EBA-A294-B56EAA5F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2A66-3F94-4812-9FE7-800B925B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2E991-3CAF-46D6-B7F1-DE8733A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04C3-2D9E-4088-B45C-F9D3E238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28C59-8E9B-46A0-92CF-BDACA145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B905-A41D-4AD2-81A4-C7677705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59A9-0F05-4CA5-8130-9A975DF8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3E3D-01C2-4E72-B7A6-82E5EE13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984-F0FE-417D-9324-E8EAB0F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9DD-1DE7-41BD-BE8E-EE5835FB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C91-C00B-44E1-B66D-9F77552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6A8-E3C1-4773-9298-C559449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483-F3EE-4997-BBD5-FDB9FBAF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1A4D-272A-4C32-A5A8-91EC9F2CD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8B2C-ADA8-4270-837B-AC3976E6A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575-EDA2-4789-A5D5-CD9060837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58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a58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434D-C27B-4C1E-91AA-6BF699A69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W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o in this equation you have </a:t>
            </a:r>
            <a:r>
              <a:rPr b="0" lang="en-US" sz="4000" spc="-1" strike="noStrike">
                <a:solidFill>
                  <a:srgbClr val="00ff00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x 1 sodium atoms being added to 2 chlorine atoms yielding </a:t>
            </a:r>
            <a:r>
              <a:rPr b="0" lang="en-US" sz="4000" spc="-1" strike="noStrike">
                <a:solidFill>
                  <a:srgbClr val="00ff00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x 1 sodium chloride molecu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3429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When we balance chemical equations, we need to figure out what coefficients to u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o do that, we list how many atoms of each element we start with, then use math to figure out the coefficie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n this equation, we start with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ur hydrogen is balanced, but we don’t have enough oxygen in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86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need to make our best mathematical guess as to which coefficient will bring balance to the eq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need two oxygen atoms, so lets try a coefficient of 2 in front of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ultiply that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y the subscripts for each atom in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ow we have enough oxygen, but too much hydrogen.  How do we balance 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2286000"/>
            <a:ext cx="9144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f we put a coefficient of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n front of the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on the reactants side, we can balance the eq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304812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23623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When pieces of matter come together or break apart, it is called a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reaction</a:t>
            </a: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e law of conservation of matter states that matter can not be created or destroy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In any reaction, you must have the same amount of each part before and after the reaction happe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We show how reactions become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balanced</a:t>
            </a: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 by using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chemical equ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ultiply the number of atoms you have by coefficients to balance equ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ultiply coefficients by every subscript until you hit a + or a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Never, ever,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EVER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 change a subscrip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ke a list of how much of each atom you have and change it as you add coefficients to your equ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rebuchet MS"/>
              </a:rPr>
              <a:t>If there are poly-atomic ions on both sides of your equation, don’t separate them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rebuchet MS"/>
              </a:rPr>
              <a:t>Quick Che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___Al(OH)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+ 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___A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+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981080" y="3429000"/>
            <a:ext cx="541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is is a balanced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3429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rrow is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ield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sign.  It separates what you start with on the left from what you end up with on the righ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3429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o the left of the yields sign are the parts that react.  They are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reactan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3429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o the right of the yields sign is what you end up with after the reaction.  These are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produc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0" y="342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little number next to and below an element is called a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subscript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  We have been using them all along.  </a:t>
            </a: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We never change subscripts in a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342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big numbers next to the elements or compounds are called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coefficien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  These are the only things we can change in a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3429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efficients tell us the amount of each compound or element we have.  You multiply the subscript for each element to the right of a coefficient until you are stopped by a + or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4:42:51Z</dcterms:created>
  <dc:creator>Andrea Pascasio</dc:creator>
  <dc:description/>
  <dc:language>en-US</dc:language>
  <cp:lastModifiedBy>Andrea Pascasio</cp:lastModifiedBy>
  <dcterms:modified xsi:type="dcterms:W3CDTF">2008-12-02T04:52:15Z</dcterms:modified>
  <cp:revision>1</cp:revision>
  <dc:subject/>
  <dc:title>BALANCING CHEMICAL EQUATIONS</dc:title>
</cp:coreProperties>
</file>